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3.png" ContentType="image/png"/>
  <Override PartName="/ppt/media/image8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3.jpeg" ContentType="image/jpeg"/>
  <Override PartName="/ppt/media/image12.jpeg" ContentType="image/jpeg"/>
  <Override PartName="/ppt/media/image34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744-6C7E-4408-9E27-107612D3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2A2B-6B93-472A-892A-12EA0700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62CD-C661-4823-840D-75558AA8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32F-3E6F-49BD-B8AF-C2F3AE98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B34-AE9F-4907-A374-0F1A472D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48F-9885-4F9C-9867-80AC46B7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898B-6FAD-4475-8B72-5F14649F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96A-3368-4A41-9C01-1E8DDE6C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3C8E-1544-4180-9AFA-5CEC2185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80AA-B327-434A-B056-705BE850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F8C-6B52-486A-896D-6BBA0BD9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204-410A-439A-88E2-24ACA5BE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FDAC-E67C-4E22-97E4-DC2AD5D15FC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54840" y="196920"/>
            <a:ext cx="1979640" cy="1971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871720" y="203040"/>
            <a:ext cx="2021040" cy="1500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297160" y="4286160"/>
            <a:ext cx="2330280" cy="2384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746760" y="4343400"/>
            <a:ext cx="2211480" cy="2325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129440" y="2357280"/>
            <a:ext cx="1800360" cy="1760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85760" y="1968480"/>
            <a:ext cx="18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832280" y="4272120"/>
            <a:ext cx="1719360" cy="2398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00160" y="4865760"/>
            <a:ext cx="1873080" cy="1779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71360" y="182520"/>
            <a:ext cx="2521080" cy="1587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5070600" y="189000"/>
            <a:ext cx="1676160" cy="2340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44800" y="3427560"/>
            <a:ext cx="54021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uola primaria di Us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asse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S. 200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44600" y="1924200"/>
          <a:ext cx="4597560" cy="145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44600" y="1924200"/>
                    <a:ext cx="459756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5" dur="25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6" dur="25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7" dur="25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31640" y="5308560"/>
            <a:ext cx="82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ianna, figlia di Minosse, appena lo 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innamorò pazzamente di Teseo e decise di aiut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che se erano nemi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732720" cy="5027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46680" y="496260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r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147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31640" y="5308560"/>
            <a:ext cx="82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ianna gli diede un grosso gomitolo che lui doveva sroto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ando avanti nel labirinto ma, in cambi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eva essere sposata dal principe. Teseo accett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190440"/>
            <a:ext cx="6732720" cy="4970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746680" y="490536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ian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157" dur="3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31640" y="5294160"/>
            <a:ext cx="82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eo entrò nel labirinto, percorse gli intricati corrid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intanto srotolava il fi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732720" cy="4998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746680" y="493380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ahy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167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31640" y="5294160"/>
            <a:ext cx="82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eo trovò Minotauro. I due combatterono a lun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ché Teseo riuscì a ucciderlo. Poi seguì il filo e tornò indie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732720" cy="4890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746680" y="481968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mue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177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31640" y="5308560"/>
            <a:ext cx="82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eo mantenne la promessa e si imbarcò con Aria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andare ad Atene dove si sarebbero spos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5240" y="160200"/>
            <a:ext cx="6732360" cy="5018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746680" y="494820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ge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187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732720" cy="5013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31640" y="5294160"/>
            <a:ext cx="82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eo, però, per ordine di Poseidone, le dichiarò che aveva finto di amar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salvarsi dalla prova del labirinto e piantò Arianna nell’isola di Nas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46680" y="494820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ian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197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31640" y="5294160"/>
            <a:ext cx="82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eo partì in tutta fretta ma, per errore, mise alla nave una vela n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eo, suo padre, la vide da lont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llo doveva essere il segno che Teseo era mort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732720" cy="496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746680" y="490536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co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207" dur="3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31640" y="5294160"/>
            <a:ext cx="82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ì il padre, dalla disperazio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buttò nel mare che bagna la costa gre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732720" cy="4981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746680" y="491976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essandro 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217" dur="3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31640" y="5294160"/>
            <a:ext cx="82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ianna, rimasta sola, iniziò a piang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o a quando apparve al suo cospetto il dio Dion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, per confortarla, le donò una meravigliosa corona d’o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732720" cy="4959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746680" y="491976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227" dur="3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31640" y="5308560"/>
            <a:ext cx="82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do Arianna morì, al sua corona fu mutata dal 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una costellazione splendent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81080" y="187200"/>
            <a:ext cx="6730920" cy="5085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746680" y="503388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e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237" dur="3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31640" y="5294160"/>
            <a:ext cx="82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osse, da giovane, desiderava con tutto se stesso diventare re di Cr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giorno chiese al dio Poseidone di mandare un s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inché i Cretesi capissero che era lui il prescel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42920"/>
            <a:ext cx="6732720" cy="5037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46680" y="493380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Mariagraz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67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4600" y="176040"/>
            <a:ext cx="6703920" cy="5069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31640" y="5294160"/>
            <a:ext cx="82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stellazione di Arian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261800">
            <a:off x="1914120" y="3530520"/>
            <a:ext cx="539640" cy="60012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261800">
            <a:off x="3308040" y="363240"/>
            <a:ext cx="584280" cy="54612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261800">
            <a:off x="3720600" y="1875960"/>
            <a:ext cx="501840" cy="67644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261800">
            <a:off x="4428720" y="2955960"/>
            <a:ext cx="536760" cy="48888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261800">
            <a:off x="4211280" y="152280"/>
            <a:ext cx="561960" cy="50652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261800">
            <a:off x="2707920" y="1893960"/>
            <a:ext cx="546120" cy="59364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261800">
            <a:off x="2655720" y="3649680"/>
            <a:ext cx="565200" cy="65088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261800">
            <a:off x="3601800" y="3701520"/>
            <a:ext cx="530280" cy="60984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261800">
            <a:off x="1417680" y="2155680"/>
            <a:ext cx="460440" cy="60984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261800">
            <a:off x="953640" y="2865240"/>
            <a:ext cx="549360" cy="53316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732640" y="4991040"/>
            <a:ext cx="113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247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1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6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7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1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2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5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6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9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0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3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4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6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8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1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3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4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6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8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9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2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3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20840" y="1015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o mito ci ha insegnato c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i greci dovevano onorare le promesse fatte agli de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ci ha spiegato l’origine del nome del mare Ege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ascita della costellazione di Aria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come è nato il modo di dire “piantare in ass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935000" y="2521080"/>
            <a:ext cx="5248440" cy="3692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222640" y="6302520"/>
            <a:ext cx="46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tellone realizzato dai bambini di classe 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381880" y="62676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75233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5300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dio Poseidone fece uscire dall'acqua un toro bi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chiese a Minosse di sacrificarlo. I Cretesi si convinsero che lui era il predestin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 quest'ultimo offese il dio rifiutandosi di  uccidere il t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ché abbagliato dal suo splendore e sacrificò, invece, un’altra best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92240"/>
            <a:ext cx="6732720" cy="4948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46680" y="490536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op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77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31640" y="5294160"/>
            <a:ext cx="82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ra il dio fece innamorare la moglie di Minosse del t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ì Minosse ebbe per figlio un mostro, mezzo toro e mezzo uo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a creatura, fu chiamata Minotau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732720" cy="4949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746680" y="490536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87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31640" y="5280120"/>
            <a:ext cx="82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osse non voleva si sapesse in giro che suo figlio era un mostr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ra chiese a Dedalo, un famoso architet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 costruire un intricato labirinto per nascondervi Minotau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732720" cy="4930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746680" y="487692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gor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97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31640" y="5294160"/>
            <a:ext cx="82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osse, oltre a Minotauro, ebbe altri otto fig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 cui Androgeo e Arian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rogeo, però, rimase ucciso ad Atene durante i giochi tauromachi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732720" cy="497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746680" y="493380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le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107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31640" y="5294160"/>
            <a:ext cx="82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re Minosse, sconvolto dal dolore,  accusò gli ateniesi di omici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dichiarò loro guer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280" y="198360"/>
            <a:ext cx="6745320" cy="4945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46680" y="489096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essandro 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117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31640" y="5294160"/>
            <a:ext cx="82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osse vinse e impose l’invio, ogni ann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 sette fanciulli e sette fanciulle ateniesi da sacrifi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inotauro per saziare la sua fame di carne um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0853" t="0" r="-367" b="19406"/>
          <a:stretch/>
        </p:blipFill>
        <p:spPr>
          <a:xfrm>
            <a:off x="179280" y="189000"/>
            <a:ext cx="6747120" cy="4835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746680" y="480528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127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31640" y="5294160"/>
            <a:ext cx="82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due volte fu ripetuto il sacrificio finché Tese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glio del re ateniese Egeo, volle porre fine a questo ecci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disse che avrebbe ucciso Minotau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732720" cy="4992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93080" y="3105000"/>
            <a:ext cx="1108080" cy="2138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095600">
            <a:off x="6978600" y="604800"/>
            <a:ext cx="2008080" cy="623880"/>
          </a:xfrm>
          <a:custGeom>
            <a:avLst/>
            <a:gdLst>
              <a:gd name="textAreaLeft" fmla="*/ 297720 w 2008080"/>
              <a:gd name="textAreaRight" fmla="*/ 1710360 w 2008080"/>
              <a:gd name="textAreaTop" fmla="*/ 15084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9" y="0"/>
                </a:lnTo>
                <a:arcTo wR="675" hR="1305" stAng="16200000" swAng="5400000"/>
                <a:lnTo>
                  <a:pt x="5904" y="5221"/>
                </a:lnTo>
                <a:lnTo>
                  <a:pt x="15696" y="5221"/>
                </a:lnTo>
                <a:lnTo>
                  <a:pt x="15696" y="1305"/>
                </a:lnTo>
                <a:arcTo wR="675" hR="1305" stAng="10800000" swAng="5400000"/>
                <a:lnTo>
                  <a:pt x="21600" y="0"/>
                </a:lnTo>
                <a:lnTo>
                  <a:pt x="18900" y="8190"/>
                </a:lnTo>
                <a:lnTo>
                  <a:pt x="21600" y="16379"/>
                </a:lnTo>
                <a:lnTo>
                  <a:pt x="18396" y="16379"/>
                </a:lnTo>
                <a:lnTo>
                  <a:pt x="18396" y="20295"/>
                </a:lnTo>
                <a:arcTo wR="675" hR="1305" stAng="0" swAng="5400000"/>
                <a:lnTo>
                  <a:pt x="3879" y="21600"/>
                </a:lnTo>
                <a:arcTo wR="675" hR="1305" stAng="5400000" swAng="5400000"/>
                <a:lnTo>
                  <a:pt x="3204" y="16379"/>
                </a:lnTo>
                <a:lnTo>
                  <a:pt x="0" y="16379"/>
                </a:lnTo>
                <a:lnTo>
                  <a:pt x="2700" y="8190"/>
                </a:lnTo>
                <a:close/>
              </a:path>
              <a:path fill="none" w="21600" h="21600">
                <a:moveTo>
                  <a:pt x="5904" y="1305"/>
                </a:moveTo>
                <a:arcTo wR="675" hR="1305" stAng="0" swAng="5400000"/>
                <a:lnTo>
                  <a:pt x="3879" y="2611"/>
                </a:lnTo>
                <a:arcTo wR="675" hR="1305" stAng="16200000" swAng="-5400000"/>
                <a:arcTo wR="675" hR="1305" stAng="10800000" swAng="-5400000"/>
                <a:lnTo>
                  <a:pt x="5904" y="5221"/>
                </a:lnTo>
              </a:path>
              <a:path fill="none" w="21600" h="21600">
                <a:moveTo>
                  <a:pt x="15696" y="1305"/>
                </a:moveTo>
                <a:arcTo wR="675" hR="1305" stAng="10800000" swAng="-5400000"/>
                <a:lnTo>
                  <a:pt x="17721" y="2611"/>
                </a:lnTo>
                <a:arcTo wR="675" hR="1305" stAng="16200000" swAng="5400000"/>
                <a:arcTo wR="675" hR="1305" stAng="0" swAng="5400000"/>
                <a:lnTo>
                  <a:pt x="15696" y="5221"/>
                </a:lnTo>
              </a:path>
              <a:path fill="none" w="21600" h="21600">
                <a:moveTo>
                  <a:pt x="3204" y="3916"/>
                </a:moveTo>
                <a:lnTo>
                  <a:pt x="3204" y="16379"/>
                </a:lnTo>
              </a:path>
              <a:path fill="none" w="21600" h="21600">
                <a:moveTo>
                  <a:pt x="18396" y="3916"/>
                </a:moveTo>
                <a:lnTo>
                  <a:pt x="18396" y="16379"/>
                </a:lnTo>
              </a:path>
            </a:pathLst>
          </a:cu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i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t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945560" y="3641760"/>
            <a:ext cx="1184040" cy="146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46680" y="4919760"/>
            <a:ext cx="11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nnif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16134 C 0.00052 -0.19931 0.02413 -0.34375 0.02969 -0.38981 C 0.02986 -0.44167 0.01059 -0.46042 -0.00365 -0.47245 C -0.02743 -0.48843 -0.0467 -0.47708 -0.0559 -0.45417 C -0.05642 -0.45208 -0.0559 -0.4294 -0.0559 -0.42731 C -0.05312 -0.40231 -0.02951 -0.38287 -0.01319 -0.41111 C 0.00313 -0.46065 -0.01562 -0.49398 -0.03385 -0.50208 C -0.11215 -0.50694 -0.10382 -0.44398 -0.10451 -0.40509 C -0.10503 -0.35579 -0.0941 -0.27338 -0.0941 -0.27315 E">
                                      <p:cBhvr>
                                        <p:cTn id="137" dur="3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8:47:12Z</dcterms:created>
  <dc:creator>Dir. Did. 2° Circolo</dc:creator>
  <dc:description/>
  <dc:language>en-US</dc:language>
  <cp:lastModifiedBy>kika</cp:lastModifiedBy>
  <dcterms:modified xsi:type="dcterms:W3CDTF">2010-06-20T18:07:09Z</dcterms:modified>
  <cp:revision>48</cp:revision>
  <dc:subject/>
  <dc:title>Diapositiva 1</dc:title>
</cp:coreProperties>
</file>